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8391-863B-4836-88ED-18B3DCBF3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9001-62D1-44CC-9660-566BE758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D468-6426-43A9-8B07-FA47E644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FB6B-7B5A-4943-9B4F-51C3352A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B2A16-7B8A-459F-8DC5-090C3CFDB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1B513-6415-4FC0-BEC8-0872A8DB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DB73-9BB0-41F4-9C2A-809F5C10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1824-0818-485B-BA42-EC1535494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520C-0611-4ED7-BF62-9C6C72EC5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C219-53B7-448A-984B-F9E81A980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E195A-4396-42C4-9B7E-A0F0D6CB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AE83-2576-4BF1-9465-16BC2B8A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E2D1-784F-4EEB-B035-0DEEB503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7EB3-63BF-4F18-A1A4-90D798F6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F29A-721A-4FE2-9B8F-3E015A31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4066-365C-4466-BBAD-AE27A57E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7F101-B78A-4321-BB1D-96928C418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FEC1-4FF5-4823-8F1C-E3FB9758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CECA-E0CE-4D02-895B-19CD8F65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35B3-080A-456D-8E05-C8DF7B48E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9643-400C-4DC7-85FB-45C0753D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59EF-4DEC-4369-94C5-4A63F572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FDEE-28A6-430F-89C0-224639D4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A4ED-61B8-46F9-A2DD-D4F31DC9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DDBC-175B-4303-BAED-24EF2D96474A}" type="slidenum">
              <a:rPr b="0" lang="en-GB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596C-1079-4C20-B0E6-4B0861C3258C}" type="slidenum">
              <a:rPr b="0" lang="en-GB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id Hitler become Chancellor in 193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By Mr RJ Huggins 2004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did many businessmen support Hitl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any businessmen were afraid of what would happen to their property if the Communists took over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se businessmen also hated the power of the trade unions which forced up the wages they paid their workers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itler promised to smash the Communists and the trade unions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72" name="" descr="[Abbildung]"/>
          <p:cNvPicPr/>
          <p:nvPr/>
        </p:nvPicPr>
        <p:blipFill>
          <a:blip r:embed="rId1"/>
          <a:stretch/>
        </p:blipFill>
        <p:spPr>
          <a:xfrm>
            <a:off x="1600200" y="1676520"/>
            <a:ext cx="29606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idential Elections, 1932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6477120" cy="42717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600200" y="56386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How did the Presidential election affect Hitler’s popularity with the German people?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5" dur="1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f the Reichst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105160" y="1447560"/>
            <a:ext cx="38098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n July 1938, the Nazis won 38% of the seats in the Reichstag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itler demanded the job of chancellor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indenburg said no!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600200" y="1219320"/>
            <a:ext cx="3048120" cy="51814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4724280" y="4191120"/>
            <a:ext cx="4114800" cy="2361960"/>
          </a:xfrm>
          <a:prstGeom prst="wedgeRoundRectCallout">
            <a:avLst>
              <a:gd name="adj1" fmla="val 35532"/>
              <a:gd name="adj2" fmla="val -66060"/>
              <a:gd name="adj3" fmla="val 16667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He could not risk transferring the power of government to a new party such as the National Socialist … which was intolerant, noisy &amp; undisciplined.’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912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tler becomes Chancell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933960" cy="4572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600200" y="59436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Why did Hindenburg make Hitler Chancellor?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228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1" dur="1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 why did Hitler become Chancellor in January 1933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70102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 &amp; 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00120" y="1523880"/>
            <a:ext cx="74916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y did the Nazis win more votes after the Wall Street Crash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y did the army and businessmen support the Nazi Party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y did Hindenburg change his mind and make Hitler Chancellor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overnment Reaction to the De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00"/>
                </a:solidFill>
                <a:latin typeface="Arial"/>
              </a:rPr>
              <a:t>Faced with massive unemployment the Weimar Republic had three options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00"/>
                </a:solidFill>
                <a:latin typeface="Arial"/>
              </a:rPr>
              <a:t>Print more money and risk hyperinflation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00"/>
                </a:solidFill>
                <a:latin typeface="Arial"/>
              </a:rPr>
              <a:t>Raise taxes to pay for unemployment benefit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00"/>
                </a:solidFill>
                <a:latin typeface="Arial"/>
              </a:rPr>
              <a:t>Save money and cut unemployment benefit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00"/>
                </a:solidFill>
                <a:latin typeface="Arial"/>
              </a:rPr>
              <a:t>The government couldn’t agree what to do and the SDP resigned from the government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00"/>
                </a:solidFill>
                <a:latin typeface="Arial"/>
              </a:rPr>
              <a:t>The Chancellor Bruning resigned as different political parties fought for control of the Reichstag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id the German People view the arguments amongst their politician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1523880"/>
            <a:ext cx="2743200" cy="1219320"/>
          </a:xfrm>
          <a:prstGeom prst="leftArrowCallout">
            <a:avLst>
              <a:gd name="adj1" fmla="val 25002"/>
              <a:gd name="adj2" fmla="val 25000"/>
              <a:gd name="adj3" fmla="val 37496"/>
              <a:gd name="adj4" fmla="val 66673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Politicians argu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who should run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Germany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9000" y="1600200"/>
            <a:ext cx="2743200" cy="1219320"/>
          </a:xfrm>
          <a:prstGeom prst="leftArrowCallout">
            <a:avLst>
              <a:gd name="adj1" fmla="val 25002"/>
              <a:gd name="adj2" fmla="val 25000"/>
              <a:gd name="adj3" fmla="val 37496"/>
              <a:gd name="adj4" fmla="val 66673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No Action i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taken to help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the unemployed!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7920" y="1600200"/>
            <a:ext cx="1981080" cy="1828800"/>
          </a:xfrm>
          <a:prstGeom prst="downArrowCallout">
            <a:avLst>
              <a:gd name="adj1" fmla="val 27084"/>
              <a:gd name="adj2" fmla="val 27082"/>
              <a:gd name="adj3" fmla="val 16667"/>
              <a:gd name="adj4" fmla="val 66667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Communist &amp;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Nazi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promise to take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3429000"/>
            <a:ext cx="1981080" cy="198108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Votes for th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Nazis &amp;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Communist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increase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5410080"/>
            <a:ext cx="2743200" cy="1219320"/>
          </a:xfrm>
          <a:prstGeom prst="rightArrowCallout">
            <a:avLst>
              <a:gd name="adj1" fmla="val 25002"/>
              <a:gd name="adj2" fmla="val 25000"/>
              <a:gd name="adj3" fmla="val 37496"/>
              <a:gd name="adj4" fmla="val 66667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00"/>
                </a:solidFill>
                <a:latin typeface="Times New Roman"/>
              </a:rPr>
              <a:t>Von Papen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00"/>
                </a:solidFill>
                <a:latin typeface="Times New Roman"/>
              </a:rPr>
              <a:t>becomes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00"/>
                </a:solidFill>
                <a:latin typeface="Times New Roman"/>
              </a:rPr>
              <a:t>Chancellor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00"/>
                </a:solidFill>
                <a:latin typeface="Times New Roman"/>
              </a:rPr>
              <a:t>in 1932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5410080"/>
            <a:ext cx="2895480" cy="1219320"/>
          </a:xfrm>
          <a:prstGeom prst="rightArrowCallout">
            <a:avLst>
              <a:gd name="adj1" fmla="val 25002"/>
              <a:gd name="adj2" fmla="val 25000"/>
              <a:gd name="adj3" fmla="val 39578"/>
              <a:gd name="adj4" fmla="val 66667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00"/>
                </a:solidFill>
                <a:latin typeface="Times New Roman"/>
              </a:rPr>
              <a:t>Papen is replaced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00"/>
                </a:solidFill>
                <a:latin typeface="Times New Roman"/>
              </a:rPr>
              <a:t>by Schleicher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00"/>
                </a:solidFill>
                <a:latin typeface="Times New Roman"/>
              </a:rPr>
              <a:t>later that year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62920" y="4648320"/>
            <a:ext cx="1752480" cy="1981080"/>
          </a:xfrm>
          <a:prstGeom prst="upArrowCallout">
            <a:avLst>
              <a:gd name="adj1" fmla="val 25002"/>
              <a:gd name="adj2" fmla="val 25000"/>
              <a:gd name="adj3" fmla="val 18841"/>
              <a:gd name="adj4" fmla="val 66660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No Action i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taken to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help th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unemployed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3200400"/>
            <a:ext cx="2590920" cy="1371600"/>
          </a:xfrm>
          <a:prstGeom prst="leftArrowCallout">
            <a:avLst>
              <a:gd name="adj1" fmla="val 25002"/>
              <a:gd name="adj2" fmla="val 25000"/>
              <a:gd name="adj3" fmla="val 31483"/>
              <a:gd name="adj4" fmla="val 66673"/>
            </a:avLst>
          </a:prstGeom>
          <a:solidFill>
            <a:srgbClr val="e5d58a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Votes for th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Nazis &amp;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Communist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increase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2743200"/>
            <a:ext cx="3505320" cy="2743200"/>
          </a:xfrm>
          <a:prstGeom prst="irregularSeal2">
            <a:avLst/>
          </a:prstGeom>
          <a:solidFill>
            <a:srgbClr val="ff0000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 German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ose their faith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Democracy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tler’s Appeal: Nazi Propagan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8840" y="152352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Nazi Propaganda portrayed Hitler as Germany’s saviour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f elected he would bring order to Germany and create jobs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Nazi propaganda promised Germans that if Hitler was elected  he would give them ‘Jobs &amp; Bread’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3467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tler’s Appeal: Nazi Rall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28840" y="1523520"/>
            <a:ext cx="39625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Nazis held mass rallies which were staged managed so that thousands could hear Hitler’s speeches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ilitary music and flags were used to to give the impression that the Nazis represented order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Hitler promised over and over again that he would give Germany strong leadership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32878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itler’s Appeal: Nazi Rall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6782040" cy="4514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600200" y="58672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Times New Roman"/>
              </a:rPr>
              <a:t>What does Hitler promise to do if was elected?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0" dur="1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did people vote for the Naz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876920" y="160020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Many people voted for the Nazis because they agreed with the Nazi ideas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Others voted for the Nazi Party because they were desperate to vote for a party that would take action to put Germany back to work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523880" y="1676520"/>
            <a:ext cx="3124080" cy="4190400"/>
            <a:chOff x="1523880" y="1676520"/>
            <a:chExt cx="3124080" cy="4190400"/>
          </a:xfrm>
        </p:grpSpPr>
        <p:grpSp>
          <p:nvGrpSpPr>
            <p:cNvPr id="190" name=""/>
            <p:cNvGrpSpPr/>
            <p:nvPr/>
          </p:nvGrpSpPr>
          <p:grpSpPr>
            <a:xfrm>
              <a:off x="1523880" y="1676520"/>
              <a:ext cx="1028880" cy="598680"/>
              <a:chOff x="1523880" y="1676520"/>
              <a:chExt cx="1028880" cy="598680"/>
            </a:xfrm>
          </p:grpSpPr>
          <p:sp>
            <p:nvSpPr>
              <p:cNvPr id="191" name=""/>
              <p:cNvSpPr/>
              <p:nvPr/>
            </p:nvSpPr>
            <p:spPr>
              <a:xfrm>
                <a:off x="1587600" y="1676520"/>
                <a:ext cx="90108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Year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523880" y="1676520"/>
                <a:ext cx="1028880" cy="5986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2552760" y="1676520"/>
              <a:ext cx="2095200" cy="598680"/>
              <a:chOff x="2552760" y="1676520"/>
              <a:chExt cx="2095200" cy="598680"/>
            </a:xfrm>
          </p:grpSpPr>
          <p:sp>
            <p:nvSpPr>
              <p:cNvPr id="194" name=""/>
              <p:cNvSpPr/>
              <p:nvPr/>
            </p:nvSpPr>
            <p:spPr>
              <a:xfrm>
                <a:off x="2616120" y="1676520"/>
                <a:ext cx="196776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Unemployed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2552760" y="1676520"/>
                <a:ext cx="2095200" cy="5986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1523880" y="2275200"/>
              <a:ext cx="1028880" cy="598680"/>
              <a:chOff x="1523880" y="2275200"/>
              <a:chExt cx="1028880" cy="598680"/>
            </a:xfrm>
          </p:grpSpPr>
          <p:sp>
            <p:nvSpPr>
              <p:cNvPr id="197" name=""/>
              <p:cNvSpPr/>
              <p:nvPr/>
            </p:nvSpPr>
            <p:spPr>
              <a:xfrm>
                <a:off x="1587600" y="2275200"/>
                <a:ext cx="90108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1928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523880" y="2275200"/>
                <a:ext cx="1028880" cy="5986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552760" y="2275200"/>
              <a:ext cx="2095200" cy="598680"/>
              <a:chOff x="2552760" y="2275200"/>
              <a:chExt cx="2095200" cy="598680"/>
            </a:xfrm>
          </p:grpSpPr>
          <p:sp>
            <p:nvSpPr>
              <p:cNvPr id="200" name=""/>
              <p:cNvSpPr/>
              <p:nvPr/>
            </p:nvSpPr>
            <p:spPr>
              <a:xfrm>
                <a:off x="2616120" y="2275200"/>
                <a:ext cx="196776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650 000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552760" y="2275200"/>
                <a:ext cx="2095200" cy="5986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1523880" y="2873880"/>
              <a:ext cx="1028880" cy="598680"/>
              <a:chOff x="1523880" y="2873880"/>
              <a:chExt cx="1028880" cy="598680"/>
            </a:xfrm>
          </p:grpSpPr>
          <p:sp>
            <p:nvSpPr>
              <p:cNvPr id="203" name=""/>
              <p:cNvSpPr/>
              <p:nvPr/>
            </p:nvSpPr>
            <p:spPr>
              <a:xfrm>
                <a:off x="1587600" y="2873880"/>
                <a:ext cx="90108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1929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23880" y="2873880"/>
                <a:ext cx="1028880" cy="5986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2552760" y="2873880"/>
              <a:ext cx="2095200" cy="598680"/>
              <a:chOff x="2552760" y="2873880"/>
              <a:chExt cx="2095200" cy="598680"/>
            </a:xfrm>
          </p:grpSpPr>
          <p:sp>
            <p:nvSpPr>
              <p:cNvPr id="206" name=""/>
              <p:cNvSpPr/>
              <p:nvPr/>
            </p:nvSpPr>
            <p:spPr>
              <a:xfrm>
                <a:off x="2616120" y="2873880"/>
                <a:ext cx="196776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1 320 000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552760" y="2873880"/>
                <a:ext cx="2095200" cy="5986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1523880" y="3472560"/>
              <a:ext cx="1028880" cy="598680"/>
              <a:chOff x="1523880" y="3472560"/>
              <a:chExt cx="1028880" cy="598680"/>
            </a:xfrm>
          </p:grpSpPr>
          <p:sp>
            <p:nvSpPr>
              <p:cNvPr id="209" name=""/>
              <p:cNvSpPr/>
              <p:nvPr/>
            </p:nvSpPr>
            <p:spPr>
              <a:xfrm>
                <a:off x="1587600" y="3472560"/>
                <a:ext cx="90108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1930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523880" y="3472560"/>
                <a:ext cx="1028880" cy="5986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2552760" y="3472560"/>
              <a:ext cx="2095200" cy="598680"/>
              <a:chOff x="2552760" y="3472560"/>
              <a:chExt cx="2095200" cy="598680"/>
            </a:xfrm>
          </p:grpSpPr>
          <p:sp>
            <p:nvSpPr>
              <p:cNvPr id="212" name=""/>
              <p:cNvSpPr/>
              <p:nvPr/>
            </p:nvSpPr>
            <p:spPr>
              <a:xfrm>
                <a:off x="2616120" y="3472560"/>
                <a:ext cx="196776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3 000 000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552760" y="3472560"/>
                <a:ext cx="2095200" cy="5986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1523880" y="4071240"/>
              <a:ext cx="1028880" cy="598680"/>
              <a:chOff x="1523880" y="4071240"/>
              <a:chExt cx="1028880" cy="598680"/>
            </a:xfrm>
          </p:grpSpPr>
          <p:sp>
            <p:nvSpPr>
              <p:cNvPr id="215" name=""/>
              <p:cNvSpPr/>
              <p:nvPr/>
            </p:nvSpPr>
            <p:spPr>
              <a:xfrm>
                <a:off x="1587600" y="4071240"/>
                <a:ext cx="90108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1931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523880" y="4071240"/>
                <a:ext cx="1028880" cy="5986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552760" y="4071240"/>
              <a:ext cx="2095200" cy="598680"/>
              <a:chOff x="2552760" y="4071240"/>
              <a:chExt cx="2095200" cy="598680"/>
            </a:xfrm>
          </p:grpSpPr>
          <p:sp>
            <p:nvSpPr>
              <p:cNvPr id="218" name=""/>
              <p:cNvSpPr/>
              <p:nvPr/>
            </p:nvSpPr>
            <p:spPr>
              <a:xfrm>
                <a:off x="2616120" y="4071240"/>
                <a:ext cx="196776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4 350 000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552760" y="4071240"/>
                <a:ext cx="2095200" cy="5986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1523880" y="4669920"/>
              <a:ext cx="1028880" cy="598320"/>
              <a:chOff x="1523880" y="4669920"/>
              <a:chExt cx="1028880" cy="598320"/>
            </a:xfrm>
          </p:grpSpPr>
          <p:sp>
            <p:nvSpPr>
              <p:cNvPr id="221" name=""/>
              <p:cNvSpPr/>
              <p:nvPr/>
            </p:nvSpPr>
            <p:spPr>
              <a:xfrm>
                <a:off x="1587600" y="4669920"/>
                <a:ext cx="901080" cy="59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1932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523880" y="4669920"/>
                <a:ext cx="1028880" cy="5983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2552760" y="4669920"/>
              <a:ext cx="2095200" cy="598320"/>
              <a:chOff x="2552760" y="4669920"/>
              <a:chExt cx="2095200" cy="598320"/>
            </a:xfrm>
          </p:grpSpPr>
          <p:sp>
            <p:nvSpPr>
              <p:cNvPr id="224" name=""/>
              <p:cNvSpPr/>
              <p:nvPr/>
            </p:nvSpPr>
            <p:spPr>
              <a:xfrm>
                <a:off x="2616120" y="4669920"/>
                <a:ext cx="1967760" cy="598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5 102 000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552760" y="4669920"/>
                <a:ext cx="2095200" cy="5983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1523880" y="5268240"/>
              <a:ext cx="1028880" cy="598680"/>
              <a:chOff x="1523880" y="5268240"/>
              <a:chExt cx="1028880" cy="598680"/>
            </a:xfrm>
          </p:grpSpPr>
          <p:sp>
            <p:nvSpPr>
              <p:cNvPr id="227" name=""/>
              <p:cNvSpPr/>
              <p:nvPr/>
            </p:nvSpPr>
            <p:spPr>
              <a:xfrm>
                <a:off x="1587600" y="5268240"/>
                <a:ext cx="90108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1933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523880" y="5268240"/>
                <a:ext cx="1028880" cy="5986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2552760" y="5268240"/>
              <a:ext cx="2095200" cy="598680"/>
              <a:chOff x="2552760" y="5268240"/>
              <a:chExt cx="2095200" cy="598680"/>
            </a:xfrm>
          </p:grpSpPr>
          <p:sp>
            <p:nvSpPr>
              <p:cNvPr id="230" name=""/>
              <p:cNvSpPr/>
              <p:nvPr/>
            </p:nvSpPr>
            <p:spPr>
              <a:xfrm>
                <a:off x="2616120" y="5268240"/>
                <a:ext cx="1967760" cy="59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3300"/>
                    </a:solidFill>
                    <a:latin typeface="Times New Roman"/>
                    <a:ea typeface="Times New Roman"/>
                  </a:rPr>
                  <a:t>6 100 000</a:t>
                </a: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552760" y="5268240"/>
                <a:ext cx="2095200" cy="59868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33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did people vote for the Naz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257800" y="4800600"/>
            <a:ext cx="320040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This 1933 election Poster says </a:t>
            </a:r>
            <a:r>
              <a:rPr b="1" i="1" lang="en-US" sz="2400" spc="-1" strike="noStrike">
                <a:solidFill>
                  <a:srgbClr val="333300"/>
                </a:solidFill>
                <a:latin typeface="Arial"/>
              </a:rPr>
              <a:t>‘Hitler our last hope.’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66800" y="1523880"/>
            <a:ext cx="3335400" cy="441972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5410080" y="1523880"/>
            <a:ext cx="3200040" cy="3124080"/>
            <a:chOff x="5410080" y="1523880"/>
            <a:chExt cx="3200040" cy="3124080"/>
          </a:xfrm>
        </p:grpSpPr>
        <p:sp>
          <p:nvSpPr>
            <p:cNvPr id="236" name=""/>
            <p:cNvSpPr/>
            <p:nvPr/>
          </p:nvSpPr>
          <p:spPr>
            <a:xfrm>
              <a:off x="5410080" y="1523880"/>
              <a:ext cx="3200040" cy="193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410080" y="1523880"/>
              <a:ext cx="320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00"/>
                  </a:solidFill>
                  <a:latin typeface="Times New Roman"/>
                  <a:ea typeface="Times New Roman"/>
                </a:rPr>
                <a:t> </a:t>
              </a: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5410080" y="1523880"/>
              <a:ext cx="3123360" cy="3124080"/>
              <a:chOff x="5410080" y="1523880"/>
              <a:chExt cx="3123360" cy="312408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410080" y="1523880"/>
                <a:ext cx="1438200" cy="774000"/>
                <a:chOff x="5410080" y="1523880"/>
                <a:chExt cx="1438200" cy="7740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5492160" y="1523880"/>
                  <a:ext cx="127440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  <a:ea typeface="Times New Roman"/>
                    </a:rPr>
                    <a:t>Year</a:t>
                  </a: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410080" y="1523880"/>
                  <a:ext cx="1438200" cy="774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6848640" y="1523880"/>
                <a:ext cx="1684800" cy="774000"/>
                <a:chOff x="6848640" y="1523880"/>
                <a:chExt cx="1684800" cy="77400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6930720" y="1523880"/>
                  <a:ext cx="1520640" cy="77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  <a:ea typeface="Times New Roman"/>
                    </a:rPr>
                    <a:t>Number of Votes</a:t>
                  </a: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848640" y="1523880"/>
                  <a:ext cx="1684800" cy="774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5410080" y="2297880"/>
                <a:ext cx="1438200" cy="587520"/>
                <a:chOff x="5410080" y="2297880"/>
                <a:chExt cx="1438200" cy="5875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492160" y="2297880"/>
                  <a:ext cx="1274400" cy="58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  <a:ea typeface="Times New Roman"/>
                    </a:rPr>
                    <a:t>1928</a:t>
                  </a: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410080" y="2297880"/>
                  <a:ext cx="1438200" cy="587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6848640" y="2297880"/>
                <a:ext cx="1684800" cy="587520"/>
                <a:chOff x="6848640" y="2297880"/>
                <a:chExt cx="1684800" cy="5875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6930720" y="2297880"/>
                  <a:ext cx="1520640" cy="58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  <a:ea typeface="Times New Roman"/>
                    </a:rPr>
                    <a:t>     </a:t>
                  </a: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  <a:ea typeface="Times New Roman"/>
                    </a:rPr>
                    <a:t>800 000</a:t>
                  </a: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48640" y="2297880"/>
                  <a:ext cx="1684800" cy="587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5410080" y="2885400"/>
                <a:ext cx="1438200" cy="587520"/>
                <a:chOff x="5410080" y="2885400"/>
                <a:chExt cx="1438200" cy="58752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5492160" y="2885400"/>
                  <a:ext cx="1274400" cy="58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  <a:ea typeface="Times New Roman"/>
                    </a:rPr>
                    <a:t>1930</a:t>
                  </a: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410080" y="2885400"/>
                  <a:ext cx="1438200" cy="587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6848640" y="2885400"/>
                <a:ext cx="1684800" cy="587520"/>
                <a:chOff x="6848640" y="2885400"/>
                <a:chExt cx="1684800" cy="5875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6930720" y="2885400"/>
                  <a:ext cx="1520640" cy="58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  <a:ea typeface="Times New Roman"/>
                    </a:rPr>
                    <a:t>  </a:t>
                  </a: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  <a:ea typeface="Times New Roman"/>
                    </a:rPr>
                    <a:t>6 400 000</a:t>
                  </a: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848640" y="2885400"/>
                  <a:ext cx="1684800" cy="587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5410080" y="3472920"/>
                <a:ext cx="1438200" cy="587520"/>
                <a:chOff x="5410080" y="3472920"/>
                <a:chExt cx="1438200" cy="58752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492160" y="3472920"/>
                  <a:ext cx="1274400" cy="58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  <a:ea typeface="Times New Roman"/>
                    </a:rPr>
                    <a:t>1932 July</a:t>
                  </a: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410080" y="3472920"/>
                  <a:ext cx="1438200" cy="587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6848640" y="3472920"/>
                <a:ext cx="1684800" cy="587520"/>
                <a:chOff x="6848640" y="3472920"/>
                <a:chExt cx="1684800" cy="58752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930720" y="3472920"/>
                  <a:ext cx="1520640" cy="58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  <a:ea typeface="Times New Roman"/>
                    </a:rPr>
                    <a:t>13 700 000</a:t>
                  </a: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848640" y="3472920"/>
                  <a:ext cx="1684800" cy="587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5410080" y="4060440"/>
                <a:ext cx="1438200" cy="587520"/>
                <a:chOff x="5410080" y="4060440"/>
                <a:chExt cx="1438200" cy="58752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5492160" y="4060440"/>
                  <a:ext cx="1274400" cy="58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  <a:ea typeface="Times New Roman"/>
                    </a:rPr>
                    <a:t>1932 Nov</a:t>
                  </a: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5410080" y="4060440"/>
                  <a:ext cx="1438200" cy="587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6848640" y="4060440"/>
                <a:ext cx="1684800" cy="587520"/>
                <a:chOff x="6848640" y="4060440"/>
                <a:chExt cx="1684800" cy="5875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930720" y="4060440"/>
                  <a:ext cx="1520640" cy="58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333300"/>
                      </a:solidFill>
                      <a:latin typeface="Times New Roman"/>
                      <a:ea typeface="Times New Roman"/>
                    </a:rPr>
                    <a:t>11 700 000</a:t>
                  </a: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848640" y="4060440"/>
                  <a:ext cx="1684800" cy="5875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69" name=""/>
          <p:cNvSpPr/>
          <p:nvPr/>
        </p:nvSpPr>
        <p:spPr>
          <a:xfrm>
            <a:off x="1295280" y="60958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Times New Roman"/>
              </a:rPr>
              <a:t>What is the link between unemployment &amp; votes for the Nazi Party?</a:t>
            </a:r>
            <a:endParaRPr b="0" lang="en-US" sz="2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20:27:11Z</dcterms:created>
  <dc:creator>RJ Huggins</dc:creator>
  <dc:description/>
  <dc:language>en-US</dc:language>
  <cp:lastModifiedBy>redwards</cp:lastModifiedBy>
  <dcterms:modified xsi:type="dcterms:W3CDTF">2007-04-24T03:48:54Z</dcterms:modified>
  <cp:revision>16</cp:revision>
  <dc:subject/>
  <dc:title>Why did Hitler become Chancellor in 1932?</dc:title>
</cp:coreProperties>
</file>